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.4-</a:t>
            </a:r>
            <a:fld id="{AF4A923A-6EB0-46D7-9ABB-278B1E4AA567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ynthetic division to help determine the zeros. It is easier to consider the integers before the fr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ry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, 1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= 1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zer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3048120"/>
            <a:ext cx="2444760" cy="1371600"/>
            <a:chOff x="1219320" y="3048120"/>
            <a:chExt cx="2444760" cy="1371600"/>
          </a:xfrm>
        </p:grpSpPr>
        <p:sp>
          <p:nvSpPr>
            <p:cNvPr id="125" name=""/>
            <p:cNvSpPr/>
            <p:nvPr/>
          </p:nvSpPr>
          <p:spPr>
            <a:xfrm>
              <a:off x="3022560" y="396252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81400" y="3962520"/>
              <a:ext cx="64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92520" y="39625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55920" y="3962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19320" y="3962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2560" y="350532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81400" y="3505320"/>
              <a:ext cx="64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92520" y="35053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55920" y="35053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19320" y="35053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22560" y="304812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81400" y="3048120"/>
              <a:ext cx="64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92520" y="30481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5592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1932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9320" y="3048120"/>
              <a:ext cx="2444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4419720"/>
              <a:ext cx="2444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9320" y="3048120"/>
              <a:ext cx="0" cy="137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64080" y="3048120"/>
              <a:ext cx="0" cy="137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3505320"/>
              <a:ext cx="33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55920" y="3048120"/>
              <a:ext cx="0" cy="457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55920" y="3962520"/>
              <a:ext cx="2108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22560" y="3962520"/>
              <a:ext cx="0" cy="457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10080" y="3048120"/>
            <a:ext cx="2444760" cy="1371600"/>
            <a:chOff x="5410080" y="3048120"/>
            <a:chExt cx="2444760" cy="1371600"/>
          </a:xfrm>
        </p:grpSpPr>
        <p:sp>
          <p:nvSpPr>
            <p:cNvPr id="149" name=""/>
            <p:cNvSpPr/>
            <p:nvPr/>
          </p:nvSpPr>
          <p:spPr>
            <a:xfrm>
              <a:off x="7365960" y="39625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24440" y="396252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35560" y="39625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98960" y="3962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39625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65960" y="35053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24440" y="350532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35560" y="35053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98960" y="35053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35053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65960" y="30481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24440" y="304812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35560" y="30481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9896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30481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3048120"/>
              <a:ext cx="2444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4419720"/>
              <a:ext cx="2444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3048120"/>
              <a:ext cx="0" cy="137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54840" y="3048120"/>
              <a:ext cx="0" cy="137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3505320"/>
              <a:ext cx="48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98960" y="3048120"/>
              <a:ext cx="0" cy="457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8960" y="3962520"/>
              <a:ext cx="1955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65960" y="3962520"/>
              <a:ext cx="0" cy="457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ry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further factor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as 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89160" y="2057400"/>
            <a:ext cx="2292120" cy="1371600"/>
            <a:chOff x="1289160" y="2057400"/>
            <a:chExt cx="2292120" cy="1371600"/>
          </a:xfrm>
        </p:grpSpPr>
        <p:sp>
          <p:nvSpPr>
            <p:cNvPr id="175" name=""/>
            <p:cNvSpPr/>
            <p:nvPr/>
          </p:nvSpPr>
          <p:spPr>
            <a:xfrm>
              <a:off x="3092040" y="297180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50880" y="2971800"/>
              <a:ext cx="640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62000" y="2971800"/>
              <a:ext cx="48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25400" y="2971800"/>
              <a:ext cx="33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89160" y="2971800"/>
              <a:ext cx="33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92040" y="251460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50880" y="2514600"/>
              <a:ext cx="640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62000" y="2514600"/>
              <a:ext cx="48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25400" y="2514600"/>
              <a:ext cx="33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9160" y="2514600"/>
              <a:ext cx="33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92040" y="205740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50880" y="2057400"/>
              <a:ext cx="640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62000" y="2057400"/>
              <a:ext cx="48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25400" y="2057400"/>
              <a:ext cx="33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89160" y="2057400"/>
              <a:ext cx="33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89160" y="2057400"/>
              <a:ext cx="2292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9160" y="3429000"/>
              <a:ext cx="2292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89160" y="2057400"/>
              <a:ext cx="0" cy="137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81280" y="2057400"/>
              <a:ext cx="0" cy="137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89160" y="2514600"/>
              <a:ext cx="3362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25400" y="2057400"/>
              <a:ext cx="0" cy="457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25400" y="2971800"/>
              <a:ext cx="19555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92040" y="2971800"/>
              <a:ext cx="0" cy="457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990720" y="37339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= 0, 3 is a zero. Th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is a factor. Using the results of the division above, we can expr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6680" y="4648320"/>
          <a:ext cx="36925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648320"/>
                    <a:ext cx="3692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655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tional zeros 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 3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te factoriz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562720" y="1295280"/>
          <a:ext cx="3045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295280"/>
                    <a:ext cx="304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990720" y="2895480"/>
          <a:ext cx="44416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895480"/>
                    <a:ext cx="4441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scartes’ Rule of Sig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e a polynomial function with real coefficients and a nonzero constant term. The number of positive real zer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i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The same as the number of variations of sig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Less than the number of variations of sig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y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ositive even inte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negative real zer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i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The same as the number of variations of sig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Less than the number of variations of sig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y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ositive even inte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ero of multiplic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coun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Descartes’ rule of signs tell us about the number of positive real zeros and the number of negative real zer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variations of sign, so there are either two or zero positive real zeros to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905120" y="2819520"/>
          <a:ext cx="39132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819520"/>
                    <a:ext cx="3913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71756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variations of sign, so there are ei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r zero negative real zeros to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Number of Zeros = 4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66680" y="1295280"/>
          <a:ext cx="56340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5634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429000" y="4495680"/>
            <a:ext cx="0" cy="129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4495680"/>
            <a:ext cx="0" cy="129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4495680"/>
            <a:ext cx="0" cy="129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4495680"/>
            <a:ext cx="0" cy="129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4495680"/>
            <a:ext cx="0" cy="129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4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olynomial and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Rational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 Polynomial Functions an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 Graphing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 Polynomial Division; The Remainder and Factor Theor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4 Theorems about Zeros of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 Ration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6 Polynomial and Rational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4.4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orems about Zeros of Polynomi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22856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polynomial with specified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polynomial function with integer coefficient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find the rational zeros and the other zeros,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Descartes’ rule of signs to find inform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bout the number of real zeros of a polynomi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function with real coeffic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Fundamental Theorem of Algebr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164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polynomial function of degre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has at least one zero in the system of complex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he Fundamental Theorem of Algebra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69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ind a polynomial function of degree 4 having zeros 1, 2,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42640" y="25142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a polynomial has facto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),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so we ha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219320" y="3581280"/>
          <a:ext cx="4305240" cy="3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81280"/>
                    <a:ext cx="430524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590920" y="4343400"/>
          <a:ext cx="4800600" cy="17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343400"/>
                    <a:ext cx="48006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Zeros of Polynomial Functions with Real Coefficient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Nonreal Zero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complex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is a zero of a polynomial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efficients, then its conjugat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lso a zero. (Nonreal zeros occur in conjugate pair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Irrational Zeros: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  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ational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perfect square, is a zero of a polynomial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tio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efficients, then its conjugate              is also a ze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62520" y="3809880"/>
          <a:ext cx="1230120" cy="4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123012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670200" y="5113440"/>
          <a:ext cx="109404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0200" y="5113440"/>
                    <a:ext cx="10940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a polynomial function of degree 6 with rational coefficients h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+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as three of its zeros. Find the other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other zeros are the conjugates of the given zero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            There are no other zeros because the polynomial of degree 6 can have at most 6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10280" y="1981080"/>
          <a:ext cx="8413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81080"/>
                    <a:ext cx="841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181480" y="3886200"/>
          <a:ext cx="82548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886200"/>
                    <a:ext cx="8254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onal Zeros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ll the coefficients are integers. Consider a rational number deno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elatively prime (having no common factor besid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nd 1).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zero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act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act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2057400"/>
          <a:ext cx="647712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4771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Find the rational zeros and then the other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Fa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o linear fa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Because the degre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3, there are at most 3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zeros. The possibilitie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4572000"/>
          <a:ext cx="6877080" cy="13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572000"/>
                    <a:ext cx="687708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23:06Z</dcterms:modified>
  <cp:revision>189</cp:revision>
  <dc:subject/>
  <dc:title>No Slide Title</dc:title>
</cp:coreProperties>
</file>